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0C8-1F74-429D-A0E5-B0E7EB8D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DEC-2A56-4D9E-9287-D8097703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7DB-C1F3-4AED-9EA0-D6356709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D8A-9FEF-4BC3-A52A-5D89B8C3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716-8385-4CC8-AD71-9B001A0C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30A-500D-41C4-84C8-9AC90F87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3FC-8F0B-4169-A901-49B3D5B8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8DC-428B-4C42-98A9-1A021D67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AB9-7AB1-4D4B-A14D-A33C45A0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DF7-E744-48FE-A861-3088D87D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DD7-82A7-4A6B-B320-136E31CE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AF1-4C43-42EA-9715-EB356EA9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28AE-8CFE-4E90-9F25-7154800E36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roblems_with_dirty_oil_in_Madagascar" TargetMode="External"/><Relationship Id="rId2" Type="http://schemas.openxmlformats.org/officeDocument/2006/relationships/hyperlink" Target="http://eewiki.newint.org/index.php/Slavery_in_Mauritania" TargetMode="External"/><Relationship Id="rId3" Type="http://schemas.openxmlformats.org/officeDocument/2006/relationships/hyperlink" Target="http://eewiki.newint.org/index.php/Indonesians_won%27t_stop_fightin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51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How much do you know about the worl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Decide a) which country,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b) which global justice iss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for each of the pho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5840" y="260280"/>
            <a:ext cx="2976480" cy="187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020000" y="4033800"/>
            <a:ext cx="1893960" cy="26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3247920" y="333360"/>
            <a:ext cx="3170520" cy="201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162000" y="4923000"/>
            <a:ext cx="2732040" cy="172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6539040" y="260280"/>
            <a:ext cx="242712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3780000" y="4925880"/>
            <a:ext cx="26384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352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untri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urit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0000" y="115560"/>
            <a:ext cx="4895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justice iss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00720" y="1413000"/>
            <a:ext cx="4319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447920" y="2440080"/>
            <a:ext cx="410976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10" descr=""/>
          <p:cNvPicPr/>
          <p:nvPr/>
        </p:nvPicPr>
        <p:blipFill>
          <a:blip r:embed="rId2"/>
          <a:stretch/>
        </p:blipFill>
        <p:spPr>
          <a:xfrm>
            <a:off x="250920" y="144360"/>
            <a:ext cx="353196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5796000" y="2443320"/>
            <a:ext cx="29541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11160" y="3610080"/>
            <a:ext cx="2222280" cy="311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5157720" y="4492800"/>
            <a:ext cx="3746520" cy="22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6"/>
          <a:stretch/>
        </p:blipFill>
        <p:spPr>
          <a:xfrm>
            <a:off x="5506920" y="144360"/>
            <a:ext cx="3243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0920" y="-100080"/>
            <a:ext cx="2376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92000" y="476280"/>
            <a:ext cx="7343640" cy="62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agasca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© Ben Stansall/Alamy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Problems_with_dirty_oil_in_Madagasca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uritania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300td.org / Creative Commons Licence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Slavery_in_Mauritani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World Development Movement)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eewiki.newint.org/index.php/Indonesians_won%27t_stop_figh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etnam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Didem Tali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http://eewiki.newint.org/index.php/%22The_beach_is_for_tourists%22_-_Vietnamese_workers_can%27t_enjoy_the_su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Babu Babu / Reuters)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 http://eewiki.newint.org/index.php/The_rich_in_Ind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eny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Socialstarclub.com under a Creative Commons Licence) 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Read more:  http://eewiki.newint.org/index.php/Women_with_disabilities_have_two_big_problems_%E2%80%93_their_disability_and_their_gen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-42840" y="189000"/>
            <a:ext cx="1654200" cy="105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5"/>
          <a:stretch/>
        </p:blipFill>
        <p:spPr>
          <a:xfrm>
            <a:off x="0" y="1392120"/>
            <a:ext cx="1568520" cy="99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49320" y="5661000"/>
            <a:ext cx="16653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7812000" y="4548240"/>
            <a:ext cx="908280" cy="12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-144360" y="2492280"/>
            <a:ext cx="187488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9"/>
          <a:stretch/>
        </p:blipFill>
        <p:spPr>
          <a:xfrm>
            <a:off x="-144360" y="3859200"/>
            <a:ext cx="1874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9:59:48Z</dcterms:created>
  <dc:creator>Linda Ruas</dc:creator>
  <dc:description/>
  <dc:language>en-US</dc:language>
  <cp:lastModifiedBy>Linda Ruas</cp:lastModifiedBy>
  <dcterms:modified xsi:type="dcterms:W3CDTF">2014-05-25T11:52:04Z</dcterms:modified>
  <cp:revision>14</cp:revision>
  <dc:subject/>
  <dc:title>Quiz about the world</dc:title>
</cp:coreProperties>
</file>